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8A7-F39B-453D-A56B-D7B1EEF7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7BA-043E-403F-9B9E-79095865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EF77-5D31-464E-BBDD-7EE23138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D5C-C6E1-4A8C-A943-3A771160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898-E682-451C-8768-89D39620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1AA-72C9-4D0F-A762-401B4271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879-AF53-46A1-B99B-ABB93546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EFC-680C-4534-9609-BB395BF6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B45-D9C3-4E1D-A625-6FC89EFE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287-1EF9-4CA3-991B-2890199A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A65-1E13-497F-A4A6-CDF83E08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D38-A7E7-40BE-A589-901CDDB4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DFEC-B9BF-4791-B6BA-BC00620ED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3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 our thanks and pra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o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our Redeem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whom and in wh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y the Spirit who dwells in u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worship you in joyful so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and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10:19Z</dcterms:created>
  <dc:creator>Anon Anon</dc:creator>
  <dc:description/>
  <dc:language>en-US</dc:language>
  <cp:lastModifiedBy>Anon Anon</cp:lastModifiedBy>
  <dcterms:modified xsi:type="dcterms:W3CDTF">2005-08-09T05:23:49Z</dcterms:modified>
  <cp:revision>11</cp:revision>
  <dc:subject/>
  <dc:title>PowerPoint Presentation</dc:title>
</cp:coreProperties>
</file>